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948B-AC1E-455D-998A-5199A519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172-9478-4C29-8208-D5DD26F9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C167-4200-4F64-B022-B527D81F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2F6A-FC86-49BE-907A-CE1A00CB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EA52-2719-4454-8A57-19F6A3D8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A086-CE48-4B5C-8E65-D6AB8209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486E-8FDA-4CED-8435-B45617DE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8F1B-6431-4813-851C-4C939EF4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A307-B3A2-45AE-93D8-A8C512E5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91C8-02D1-4C4C-89DE-86D18E5C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11DE-9F37-4BA8-9021-8C448DF0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8186-33F8-4425-A5D8-DB79511F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C625-CA8A-4C8E-92D3-9ED24844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9A98-FFFD-4AE9-9A7C-E6230929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BCE5-F6CF-48F6-BA8F-CDE49FF4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D00B-1BAE-4C8A-B5AC-F28AF39EB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5480-F9AB-4855-AD45-3E76118E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CEEEC-2218-44EA-BE34-525CB496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403CD-2CD9-4597-A7FC-DA983CE9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05629-7E54-4211-89C7-65D1E001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BD28B-879A-41F0-908E-FB1F079E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F24FA-9A22-4F75-AA36-BF8E55F3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4C6A-0F6D-4860-87E3-871ABEDB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DED1F-651E-42B6-89AA-EB16B2A5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CB7BA-5112-40E0-A387-06947C47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8C5DA-32FE-4E7F-A400-155891E4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211F6-8340-4727-A41F-74D95589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613CB-B2A2-4D3B-B45D-2A27459B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A3508-5CB9-4626-BF9E-8A7E7637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774D4-B9A6-4353-AC73-2CADA59E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61942-5795-4608-9D55-B730A790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F0FAC-E4F2-473F-82E3-40B3E03E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50774-9670-45AD-A83F-A1E5708E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E5A8-C6DF-4253-8344-895D1163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E3DA3-9C9E-4002-8C05-08A5559F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C22F2-CF10-4422-B10C-B0DD3250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0A0C2-E536-4A09-8F92-F47BC54D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1C049-BD0D-4834-A3FD-798DBD30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11029-A538-4600-9836-6E139B1D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98288-749C-4EE9-97A6-78B91AAC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F2784-03E4-4236-BEE7-57732F70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5F1B5-89E7-4E24-9155-A10841B5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2B731-AA24-40CD-A43D-CE1F370D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DBB99-D16F-40CE-AFFF-F775BD2C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6255-B6EC-4792-8B32-EC790C55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10291-441F-44F5-9449-EF81AD1F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AB035-23FD-4819-B0E7-A2BB8271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77B64-1F01-4703-B6A3-711C29BE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F64D1-2705-40F5-B940-ED4E223B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4C229-0B34-4CF1-8066-F44B81D6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A230A-02A4-49B2-8DB3-8DDD3DE2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E3C6F-38EC-41B5-9024-5565754D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BA22B-5DF7-466B-97CA-4C0C873E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2E2E3-E7CC-49F7-9D17-2833BE8F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DDDB6-DFCB-4236-9EA5-CAA08640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7140-42CF-4412-8363-C29BFF9E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9A41B-EDA4-4A21-8D80-701DCDA7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DA383-6259-4373-A572-B3E3C563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DB599-9CC1-4F4B-B137-29BCAB20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AE297-B977-4C83-BBDD-B0DA5548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4C235-9CAD-4CAE-9407-0D43B250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79301-0D8D-4CF4-941E-FE7436CF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4CA41-70BF-47C4-8493-09B5C9C4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2C137-80C4-420D-ABD4-B3D05223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3B9D0-34B9-4E85-B473-93767E0C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89A7D-6C04-49F0-AD6A-D828E903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53DB-2CD6-43CC-96FA-8F15E3DC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D0DC5-A818-4557-8241-BCE23DB3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C7959-8DB7-42B4-B02C-A169969C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8D53F-385A-44A9-A4F8-EEFA651D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CB169-4F1C-4090-9867-C9F61E63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7406F-54CF-450B-BC39-5C08B493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BBBDC-4351-4EAE-B146-017D00C1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147AA-25DC-490C-B6B7-6B2016DF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4C8CD-1381-49AD-A19D-E222E34C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51149-D90D-4CD2-881D-EAF319C6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B3502-4FBC-4069-9E09-32A3F34C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A1E0-7636-431A-8373-095A0430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4DA8D-934C-4FE6-AC9A-6CEC2E89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AB42A-8DDC-4897-A0CF-6317F769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D5A9A-BDA3-462C-8A57-44FCADD9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FC334-2423-4F68-902D-97DD7BF8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7C7EF-F8CC-4675-9C57-B6AF8EA9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3629A-5173-423B-BBC8-90A8F0A6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D621F-D1E9-4069-90A9-43452695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76C4B-6724-4162-9CFD-1B6C2845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E96CA-720D-4E43-8D3D-05EE430B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1DCC7-3AFE-4073-A7E0-AE03ED61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726-5766-417E-A139-84A8F3BB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ECF7A-EBF1-4E95-AE05-519B46BB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E2D1C-297C-40FE-841C-98A5BB1A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443AF-924D-4988-9F36-3552EFDF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3D527-8CBA-4172-98DA-CD1EEA91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CBB48-7AB8-4389-A381-596DCE2D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918C1-9ACF-403E-A983-E07B72E4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67BB6-11BF-4ADD-8E8C-37E0DDED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955B-70B0-4F60-A71E-3E2874134FF9}" type="datetime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Saltillo, Coahuila  04 de Diciembre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C571-4507-480B-92AF-8A42F6B70A53}" type="slidenum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a6f3e"/>
              </a:gs>
              <a:gs pos="50000">
                <a:srgbClr val="80b984"/>
              </a:gs>
              <a:gs pos="100000">
                <a:srgbClr val="3a6f3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3cbb5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7CFF-DBF1-46BA-8B6E-DB9F440B22C1}" type="datetime">
              <a:rPr b="0" lang="es-MX" sz="1000" spc="-1" strike="noStrike">
                <a:solidFill>
                  <a:srgbClr val="ffffff"/>
                </a:solidFill>
                <a:latin typeface="Lucida Sans Unicode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bf0ec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bf0ec"/>
                </a:solidFill>
                <a:latin typeface="Lucida Sans Unicode"/>
              </a:rPr>
              <a:t>Saltillo, Coahuila  04 de Diciembre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033A-0550-4A2F-97C4-5C864BEC8870}" type="slidenum">
              <a:rPr b="0" lang="es-MX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9D92-C263-47ED-9B80-7961EA674E7F}" type="datetime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Saltillo, Coahuila  04 de Diciembre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9BB7-A6A8-43E7-BE56-43A34305D757}" type="slidenum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F96A-C1C7-4A9B-8AAF-8F73A0645F9A}" type="datetime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Saltillo, Coahuila  04 de Diciembre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C2CB-C3E4-452D-9D58-6B8D72870D82}" type="slidenum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9010-68B2-4A0B-89C6-30A5263C6981}" type="datetime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Saltillo, Coahuila  04 de Diciembre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70CC-55C6-44D6-AC95-288EB3CE645A}" type="slidenum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0278-F6A3-41AF-9348-842897C80698}" type="datetime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Saltillo, Coahuila  04 de Diciembre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65D2-7E72-4E77-8697-85B53756F16C}" type="slidenum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7D53-57FA-44C0-96D6-BE0E26E63EC0}" type="datetime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Saltillo, Coahuila  04 de Diciembre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5539-78AE-4288-ABF2-8312F6625235}" type="slidenum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DC25-2BDE-4CC3-8A84-E9792CF5BCBF}" type="datetime">
              <a:rPr b="0" lang="es-MX" sz="1000" spc="-1" strike="noStrike">
                <a:solidFill>
                  <a:srgbClr val="ffffff"/>
                </a:solidFill>
                <a:latin typeface="Lucida Sans Unicode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Lucida Sans Unicode"/>
              </a:rPr>
              <a:t>Saltillo, Coahuila  04 de Diciembre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55B4-9133-4B4C-96B8-32FB207772BB}" type="slidenum">
              <a:rPr b="0" lang="es-MX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Resultado de imagen para logotipo proaire"/>
          <p:cNvPicPr/>
          <p:nvPr/>
        </p:nvPicPr>
        <p:blipFill>
          <a:blip r:embed="rId1"/>
          <a:stretch/>
        </p:blipFill>
        <p:spPr>
          <a:xfrm>
            <a:off x="6804000" y="333360"/>
            <a:ext cx="1944720" cy="1440000"/>
          </a:xfrm>
          <a:prstGeom prst="rect">
            <a:avLst/>
          </a:prstGeom>
          <a:ln w="0">
            <a:noFill/>
          </a:ln>
        </p:spPr>
      </p:pic>
      <p:pic>
        <p:nvPicPr>
          <p:cNvPr id="371" name="1 Título" descr=""/>
          <p:cNvPicPr/>
          <p:nvPr/>
        </p:nvPicPr>
        <p:blipFill>
          <a:blip r:embed="rId2"/>
          <a:stretch/>
        </p:blipFill>
        <p:spPr>
          <a:xfrm>
            <a:off x="603360" y="2414520"/>
            <a:ext cx="7785000" cy="1749600"/>
          </a:xfrm>
          <a:prstGeom prst="rect">
            <a:avLst/>
          </a:prstGeom>
          <a:ln w="0">
            <a:noFill/>
          </a:ln>
        </p:spPr>
      </p:pic>
      <p:sp>
        <p:nvSpPr>
          <p:cNvPr id="372" name="4 Marcador de pie de página"/>
          <p:cNvSpPr/>
          <p:nvPr/>
        </p:nvSpPr>
        <p:spPr>
          <a:xfrm>
            <a:off x="3635280" y="5732640"/>
            <a:ext cx="50529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Lucida Sans Unicode"/>
              </a:rPr>
              <a:t>Saltillo, Coahuila , 30 de Enero 201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Imagen 33" descr=""/>
          <p:cNvPicPr/>
          <p:nvPr/>
        </p:nvPicPr>
        <p:blipFill>
          <a:blip r:embed="rId3"/>
          <a:srcRect l="0" t="0" r="58705" b="0"/>
          <a:stretch/>
        </p:blipFill>
        <p:spPr>
          <a:xfrm>
            <a:off x="250920" y="333360"/>
            <a:ext cx="29653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Imagen 33" descr=""/>
          <p:cNvPicPr/>
          <p:nvPr/>
        </p:nvPicPr>
        <p:blipFill>
          <a:blip r:embed="rId1"/>
          <a:srcRect l="0" t="0" r="58705" b="0"/>
          <a:stretch/>
        </p:blipFill>
        <p:spPr>
          <a:xfrm>
            <a:off x="0" y="189000"/>
            <a:ext cx="2965320" cy="1655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Resultado de imagen para logotipo proaire"/>
          <p:cNvPicPr/>
          <p:nvPr/>
        </p:nvPicPr>
        <p:blipFill>
          <a:blip r:embed="rId2"/>
          <a:stretch/>
        </p:blipFill>
        <p:spPr>
          <a:xfrm>
            <a:off x="6551640" y="5084640"/>
            <a:ext cx="2592360" cy="1616040"/>
          </a:xfrm>
          <a:prstGeom prst="rect">
            <a:avLst/>
          </a:prstGeom>
          <a:ln w="0">
            <a:noFill/>
          </a:ln>
        </p:spPr>
      </p:pic>
      <p:pic>
        <p:nvPicPr>
          <p:cNvPr id="376" name="1 Título" descr=""/>
          <p:cNvPicPr/>
          <p:nvPr/>
        </p:nvPicPr>
        <p:blipFill>
          <a:blip r:embed="rId3"/>
          <a:stretch/>
        </p:blipFill>
        <p:spPr>
          <a:xfrm>
            <a:off x="249120" y="1768320"/>
            <a:ext cx="8639280" cy="1810080"/>
          </a:xfrm>
          <a:prstGeom prst="rect">
            <a:avLst/>
          </a:prstGeom>
          <a:ln w="0">
            <a:noFill/>
          </a:ln>
        </p:spPr>
      </p:pic>
      <p:sp>
        <p:nvSpPr>
          <p:cNvPr id="377" name="3 CuadroTexto"/>
          <p:cNvSpPr/>
          <p:nvPr/>
        </p:nvSpPr>
        <p:spPr>
          <a:xfrm>
            <a:off x="611280" y="3827520"/>
            <a:ext cx="799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Lucida Sans Unicode"/>
              </a:rPr>
              <a:t>Objetivo:  Contar con un programa de educación ambiental para concientizar y sensibilizar a estudiantes sobre la contaminación del aire y sus impactos a la salud y el medio amb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Resultado de imagen para logotipo proaire"/>
          <p:cNvPicPr/>
          <p:nvPr/>
        </p:nvPicPr>
        <p:blipFill>
          <a:blip r:embed="rId1"/>
          <a:stretch/>
        </p:blipFill>
        <p:spPr>
          <a:xfrm>
            <a:off x="6948360" y="4724280"/>
            <a:ext cx="1944720" cy="1338480"/>
          </a:xfrm>
          <a:prstGeom prst="rect">
            <a:avLst/>
          </a:prstGeom>
          <a:ln w="0">
            <a:noFill/>
          </a:ln>
        </p:spPr>
      </p:pic>
      <p:sp>
        <p:nvSpPr>
          <p:cNvPr id="379" name="2 CuadroTexto"/>
          <p:cNvSpPr/>
          <p:nvPr/>
        </p:nvSpPr>
        <p:spPr>
          <a:xfrm>
            <a:off x="395280" y="2421000"/>
            <a:ext cx="8497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nerar convenios entre el sector educativo, de salud, organizaciones no gubernamentales y ambientales. (20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alizar convenios entre los distintos sectores para definir el grupo de trabajo que establecerá el contenido del material didáctico a integrar en los diferentes niveles educa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Imagen 33" descr=""/>
          <p:cNvPicPr/>
          <p:nvPr/>
        </p:nvPicPr>
        <p:blipFill>
          <a:blip r:embed="rId2"/>
          <a:srcRect l="0" t="0" r="58705" b="0"/>
          <a:stretch/>
        </p:blipFill>
        <p:spPr>
          <a:xfrm>
            <a:off x="166680" y="189000"/>
            <a:ext cx="29653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Imagen 33" descr=""/>
          <p:cNvPicPr/>
          <p:nvPr/>
        </p:nvPicPr>
        <p:blipFill>
          <a:blip r:embed="rId1"/>
          <a:srcRect l="0" t="0" r="58705" b="0"/>
          <a:stretch/>
        </p:blipFill>
        <p:spPr>
          <a:xfrm>
            <a:off x="324000" y="404640"/>
            <a:ext cx="2965320" cy="1656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Resultado de imagen para logotipo proaire"/>
          <p:cNvPicPr/>
          <p:nvPr/>
        </p:nvPicPr>
        <p:blipFill>
          <a:blip r:embed="rId2"/>
          <a:stretch/>
        </p:blipFill>
        <p:spPr>
          <a:xfrm>
            <a:off x="6732720" y="5300640"/>
            <a:ext cx="1942920" cy="1338120"/>
          </a:xfrm>
          <a:prstGeom prst="rect">
            <a:avLst/>
          </a:prstGeom>
          <a:ln w="0">
            <a:noFill/>
          </a:ln>
        </p:spPr>
      </p:pic>
      <p:sp>
        <p:nvSpPr>
          <p:cNvPr id="383" name="2 CuadroTexto"/>
          <p:cNvSpPr/>
          <p:nvPr/>
        </p:nvSpPr>
        <p:spPr>
          <a:xfrm>
            <a:off x="395280" y="2421000"/>
            <a:ext cx="835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 Crear grupo de trabajo multidisciplinario.(20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formar grupo de trabajo que defina el alcance del programa de educación ambiental en el tema de calidad del aire, así como los tiempos y estrategia para la implementación del mi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Resultado de imagen para logotipo proaire"/>
          <p:cNvPicPr/>
          <p:nvPr/>
        </p:nvPicPr>
        <p:blipFill>
          <a:blip r:embed="rId1"/>
          <a:stretch/>
        </p:blipFill>
        <p:spPr>
          <a:xfrm>
            <a:off x="6804000" y="4941720"/>
            <a:ext cx="2046240" cy="1400400"/>
          </a:xfrm>
          <a:prstGeom prst="rect">
            <a:avLst/>
          </a:prstGeom>
          <a:ln w="0">
            <a:noFill/>
          </a:ln>
        </p:spPr>
      </p:pic>
      <p:sp>
        <p:nvSpPr>
          <p:cNvPr id="385" name="2 CuadroTexto"/>
          <p:cNvSpPr/>
          <p:nvPr/>
        </p:nvSpPr>
        <p:spPr>
          <a:xfrm>
            <a:off x="611280" y="2128680"/>
            <a:ext cx="777708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 Diseñar el material didáctico en el tema de calidad del aire. (20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eñar el material didáctico en el tema de la calidad del acorde a los niveles educativos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Imagen 33" descr=""/>
          <p:cNvPicPr/>
          <p:nvPr/>
        </p:nvPicPr>
        <p:blipFill>
          <a:blip r:embed="rId2"/>
          <a:srcRect l="0" t="0" r="58705" b="0"/>
          <a:stretch/>
        </p:blipFill>
        <p:spPr>
          <a:xfrm>
            <a:off x="250920" y="260280"/>
            <a:ext cx="25797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2 CuadroTexto"/>
          <p:cNvSpPr/>
          <p:nvPr/>
        </p:nvSpPr>
        <p:spPr>
          <a:xfrm>
            <a:off x="539640" y="2133720"/>
            <a:ext cx="777744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. Diseñar e implementar un programa de educación ambiental en el tema de la calidad del aire y sus impactos a la salud. (20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tegrar el tema de calidad del aire en el programa de educación ambiental diseñado a todos los niveles educa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Imagen 33" descr=""/>
          <p:cNvPicPr/>
          <p:nvPr/>
        </p:nvPicPr>
        <p:blipFill>
          <a:blip r:embed="rId1"/>
          <a:srcRect l="0" t="0" r="58705" b="0"/>
          <a:stretch/>
        </p:blipFill>
        <p:spPr>
          <a:xfrm>
            <a:off x="468360" y="476280"/>
            <a:ext cx="2192400" cy="1224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Resultado de imagen para logotipo proaire"/>
          <p:cNvPicPr/>
          <p:nvPr/>
        </p:nvPicPr>
        <p:blipFill>
          <a:blip r:embed="rId2"/>
          <a:stretch/>
        </p:blipFill>
        <p:spPr>
          <a:xfrm>
            <a:off x="6516720" y="4941720"/>
            <a:ext cx="204624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4T15:04:52Z</dcterms:created>
  <dc:creator>Impacto</dc:creator>
  <dc:description/>
  <dc:language>en-US</dc:language>
  <cp:lastModifiedBy>Impacto</cp:lastModifiedBy>
  <dcterms:modified xsi:type="dcterms:W3CDTF">2020-01-29T15:14:54Z</dcterms:modified>
  <cp:revision>8</cp:revision>
  <dc:subject/>
  <dc:title>5. Comunicación y Educación Ambiental.</dc:title>
</cp:coreProperties>
</file>